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C8D-BA0B-4DFA-ADA8-7B598E7E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2BD-50A5-449D-986D-A77A6464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231-C9F4-467D-924C-D2744B37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CE6-2721-4CD9-B8E1-B8D32275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CB9-671B-498B-BDCA-ED5F5B14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197-3920-414B-83A3-58A07766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B59-08DA-47F5-8046-46D62E05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604-B1C8-483D-A2D2-FD0CEB8F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D51-BE71-4966-95DC-6358A2D5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D65-74D0-4FD1-9D0F-FA9B3455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CB0-C8C6-4B28-BDD0-6F7A21C9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DBA-89A2-4F54-BB6A-76E057F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88070-1723-46D9-A3D4-D92A7C987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cc.gnu.org/projects/cxx0x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181440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++0x – Mitä, missä milloin hä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ikki Laitala 29.4.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3640" y="1828800"/>
            <a:ext cx="7594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inen esimerk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late&lt;class T&gt; using Vec =  vector&lt;T,My_alloc&lt;T&gt;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c&lt;double&gt; v = { 2.3, 1.2, 6.7, 4.5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t(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(auto p = v.begin(); p!=v.end(); ++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 &lt;&lt; *p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late&lt;class T&gt; using Vec =  vector&lt;T,My_alloc&lt;T&gt;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216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ässä määritellään tietotyyppi Vec&lt;T&gt; joka on alias tietotyypille vector&lt;T,My_alloc&lt;T&gt;&gt;. Eli siis me määrittelemme vektorin Vec joka toimii kuten vektori mutta se käyttää muodostinta (alloc) (My_alloc) ennemmin kuin oletusmuodostinta (default allocato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216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omaa, että  template-määrittelystä on poistettu yksi ylimäärinen tyhjä väli eli vector&lt;T, My_alloc&lt;T&gt; &gt; on vector&lt;T, My_alloc&lt;T&gt;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c&lt;double&gt; v = { 2.3, 1.2, 6.7, 4.5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omaa alustuslista. Alustuslista on vanhassa standartissa mahdollinen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vain taulukoille, tietueille (struc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t(v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ähän ominaisuuteen liittyy ”Conceptit” eli tyyppien tyyp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(auto p = v.begin(); p!=v.end(); ++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omaa! auto-sana. Auto-sana tarkoittaa tässä, että päättele p:n tyyppi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suoraan v:n perusteel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usi c++-kielen stand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lee korvaamaan c++98 ja c++03-standar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lkaisu aikataulu 2009 (ISO 2008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lee olemaan täysin yhteensopiva edellisten standartien kanssa. vrt. Python 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cc-kääntäjälle on jo toteutettu monia uuden standartin ominaisuuksia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gcc.gnu.org/projects/cxx0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studiokin 2008 osaa jo osia uudesta standar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usi standarti keskityy geneeriseen ohjelmointiin sekä säieohjelmointi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tin tekijöillä on myös toiveena tehdä kielestä helpommin opitta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uraavaksi muutamia esimerkkejä tulevista ominaisuuks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 : Rvalue referenss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in Lvalue referenssi =”alias” (tuttu juttu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a;  ....  A&amp; a_ref = 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id doSomething(const A&amp; o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tten Rvalue referens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a; .... A&amp;&amp; a_ref = 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imii kuten Lvalue versiokin, mutta nyt voidaan ottaa referenssi väliaikaisesta (Rvalue) oliost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i si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&amp; a_ref = A();  //Ei toimi entisessä c++-kiele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&amp;&amp; a_ref = A();  //Ok uudessa standarti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tä iloa tästä on? Noh se nopeuttaa koodia estämällä ylimääräistä kopioint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91440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imerkk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late &lt;class T&gt; swap(T&amp; a, T&amp; b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tmp(a);   // now we have two copies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= b;      // now we have two copies of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tmp;    // now we have two copies of tmp (aka 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2296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äyttämällä Rvalue-refrenssiä niin sanotun Move-semantiikan kaut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late &lt;class T&gt; swap(T&amp; a, T&amp; b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tmp(std::move(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= std::move(b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std::move(tm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/Tämä on std-nimiavaruudessa oleva toteutu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late &lt;class 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ename remove_reference&lt;T&gt;::type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e(T&amp;&amp; 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++0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tkinen mitä tuossa tapaht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na on käyttää Rvalue-referenssiä hyväksi siten, että ei turhan takia luoda kopioita olio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vällinen idea Move-semantiikassa on siirtää muistissa oleva olio uuteen muistipaikkaan kopioimatta sitä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